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FA8-935E-42E6-8188-1B4F6310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504-9B9B-4B7C-94D1-DC2072E0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3CE-1E01-46B0-9C0C-42846189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4B6-52D9-45F2-81DC-F021D372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96B-FFD5-45AF-8599-FCD3DED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61-350E-4BCE-983A-1FF5F80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645-16A7-451F-8CF3-E576B99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CAE-BE99-4A2D-A26C-00CB6E18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421-8E25-44E1-8345-8FBC695F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06C-9AC2-4850-9ED1-3E58B1E1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B84-C7DB-44C9-A3C2-0F122AD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CB7-8612-4DEA-A608-DA56A8D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0864-645D-4CAF-BF64-AE829CC990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ie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causes the changes in a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causes a species to change its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occur from exposure to radiation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rtain mutations may increase the chances of survival of an organisms and this will lead to the genes being passed on and the organisms ev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all different theories of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Darwin’s finches helped him to put forward a theory of evolution based on natura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y Lamarck’s theory of evolution was fla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r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602080" cy="143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309708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MPj03142900000[1]"/>
          <p:cNvPicPr/>
          <p:nvPr/>
        </p:nvPicPr>
        <p:blipFill>
          <a:blip r:embed="rId3"/>
          <a:stretch/>
        </p:blipFill>
        <p:spPr>
          <a:xfrm>
            <a:off x="6602400" y="1557360"/>
            <a:ext cx="2541600" cy="238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317340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Pj04018680000[1]"/>
          <p:cNvPicPr/>
          <p:nvPr/>
        </p:nvPicPr>
        <p:blipFill>
          <a:blip r:embed="rId5"/>
          <a:stretch/>
        </p:blipFill>
        <p:spPr>
          <a:xfrm>
            <a:off x="2987640" y="2924280"/>
            <a:ext cx="295920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250920" y="119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 these animals into a logical sequence, explain your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orie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theories of evolution but the 2 most well known are the on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ed one of the earliest theories of evolution in 18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ggested that the more an organ was used, the more it increased in size from generation to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he suggested that Giraffes had developed long necks and legs from generations of giraffes stretching to feed on the tall leaves of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his famous voyage on HMS Beagle, Darwin made many observations and collected hundreds of specimens that formed the basis of his Theory of Evolution based upon Natura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the fittest organisms survive to pass their genes on to the next generation. Organisms that didn’t survive obviously couldn’t pass those gen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of Camouf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y of modern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7:51:15Z</dcterms:created>
  <dc:creator>Sean Webb</dc:creator>
  <dc:description/>
  <dc:language>en-US</dc:language>
  <cp:lastModifiedBy>Elisa</cp:lastModifiedBy>
  <dcterms:modified xsi:type="dcterms:W3CDTF">2009-12-11T20:35:41Z</dcterms:modified>
  <cp:revision>3</cp:revision>
  <dc:subject/>
  <dc:title>Theories of Evolution</dc:title>
</cp:coreProperties>
</file>